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E4CA-D519-4FB0-BED9-D443BAA2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2FB-1D50-4733-8278-E6C2117E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E6A-F6C1-464E-80C3-9D6E2701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690-6BDE-429D-8CC9-099B242C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035-F30B-4957-879E-0D94D854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497-BAC2-4AAC-A669-40724B2A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2C6-7DE8-4437-8308-90C1111E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822D-6D12-4AC7-8B33-CFBB7347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968-9559-49D4-9AC3-14C051B2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BA5-B481-45BC-8B26-397FF72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36C-EFAE-455C-9385-E873132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1C0-8B63-4F8D-B42D-7924AA03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ABB8-D7D8-4C5B-A098-9F01DE32B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connections to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picture remind you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at experience make you f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9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Text conn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else you read (book, poem, newspaper, letter), watched (t.v., internet), or maybe heard (radio broadcast, commercial, new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498168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81680" y="44197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724280"/>
            <a:ext cx="2714760" cy="16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134120" y="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-to-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you read reminds you of something going on in the worl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62600" y="1371600"/>
            <a:ext cx="2381400" cy="192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581280" y="3511440"/>
            <a:ext cx="48769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-to-Self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in the text reminds you of a personal experience or the experience of someone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se notes in your bind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392200" cy="32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3733920"/>
            <a:ext cx="3504960" cy="2616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77120" y="3809880"/>
            <a:ext cx="2427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CONNE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loud, begin reading on page 22, starting with the paragraph beginning with “Papa opened the front door to the soldi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see arrows with orange highlights, stop and tell the kids about the connections I made.  I have included an example of each type of connection.  Write the connections I made on a post-it note and attach it to the CHART PAPER graphic organizer.  For the so what part, have them figure out how the connection helps the reader better understand EITHER a character’s actions, character’s feelings, the main conflict, OR the setting. JUST PICK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reading when you get to page 24.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nec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609480"/>
          <a:ext cx="9144000" cy="6418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ext says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minds me of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 What?  This helped me understand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you would be so kind as to tell me where the Rosens are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Diary of Anne Frank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Nazi soldiers find the family in hiding.  They were taken to concentration camps and many were kil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uch people’s lives changed during this time.  Fear overcame all peo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crumpled it into her hand and closed her fingers tightly.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many Jewish people went into hiding and had to hide anything that symbolized their religio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in general hide who they a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need to look out for their safety first and that we sometimes hide who we are in order to protect oursel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-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you have this blonde haired daughter…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ister often gets asked about her blonde hair because my parents, sister, and I all have dark hair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get their feelings hurt when they are signaled out for differe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ependent b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day, fill out this graphic organ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be thoughtful about your connec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s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t Five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sk the kids to share their connections with the clas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14:32Z</dcterms:created>
  <dc:creator>Administrator</dc:creator>
  <dc:description/>
  <dc:language>en-US</dc:language>
  <cp:lastModifiedBy>Administrator</cp:lastModifiedBy>
  <dcterms:modified xsi:type="dcterms:W3CDTF">2010-09-15T14:22:45Z</dcterms:modified>
  <cp:revision>8</cp:revision>
  <dc:subject/>
  <dc:title>Do Now 9-21 I can make connections to text.</dc:title>
</cp:coreProperties>
</file>